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88A-1934-4792-9744-A8B7E2D4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0B9-806B-4CD2-BC40-44D3CA29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38C-CA8E-44F8-B194-7B4AD6AE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103-11AB-4828-BE4B-39892EFA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39C4-495A-4931-B1AE-084AB0FD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25B-29A2-4FB4-8F78-8624FE46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CD4D-2100-4042-B7CA-4E97027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496F-7E61-437B-B301-BBC81516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BF7D-B07D-4422-BB69-A3FDB3A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C0F1-E540-41E5-911F-D8D09E8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980A-DD9A-4C1E-851F-0B87B56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6E5-0497-45D1-BDF2-C876254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1B0-BB93-4257-B455-394996D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B37C-A65A-4972-9685-005DE983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0181-71F1-4E80-B39D-CBEC5A7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D6D5-DD9C-409A-9174-0D86B2FF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1498-6836-42D7-A692-DFBC24AD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4D1-BE78-48F7-92B8-5ADA589C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5BD-7482-4CC8-9C58-C2B458A9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754-EFF1-4BB5-BF1B-D2FAD1D6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99E-819E-44AC-AFDF-98C23F73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4A4-F9AA-4227-904E-EA385401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166-8CEC-4FA0-930B-7F9B752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46A-EABA-4DD7-B044-B5029E8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EFE-C8C7-44AD-9332-5FEF1C254F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4C00-C73D-41F5-B777-8AEA90A73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MONT 20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op 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w &amp; Par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ck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drai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seberry P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kewag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r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rney Pa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r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er S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cake B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co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ndividu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wa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re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ing for additional 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ing for a parent to coordinate Fundrai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w events – money to scouts proportion to the amount of time spent doing 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#1 – Day Hike – Saturday Decembe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00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y &amp; Weekend hikes - 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ared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keout #1 – Monday November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8:00 P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shakeouts – TB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crew is expected to attend s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7 Treks – available Mar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choose Trek till tha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6 Treks – can be used only for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dition D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&amp;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(Personal &amp; Cr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rai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e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dition D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ust 2, 2007 – August 14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/2) – lunch, start of expe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1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/13) – off the tr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 1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/14) – depart Philmont after break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need to arrive August 1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to travel arrival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s &amp; Pay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mized cost sheet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mized payment schedule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payments to Philmo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 200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6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Troop advanced 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 200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2940    Extended from Oct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 200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29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* Troop does not have the funds available to advance this pay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w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ies to be used by the entire cr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ed equally by all crew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rew members personal supp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ack / Sleeping Bag / Tent /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included in the itemized Cost 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 - Cr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 Pur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acking Sto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l Cani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packing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id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ct Ta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ylon 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stic Garden Sho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llon Size Ziploc B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 S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981080"/>
            <a:ext cx="377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 More to come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 - Individ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pack &amp; Rain 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bow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poon/sp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Nalg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2-liter blad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wing K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p Su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screen (min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ect Spray (min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i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981080"/>
            <a:ext cx="338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llon size Ziploc B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t (2 person to sh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kerch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eping B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eping P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 More to come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pment - Clot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king Bo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 Wool Sock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w Shirt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n G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ece Sweatshirt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Pants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-A Uniform (COMPLE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eepw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more to come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d within 12 months of expedition date – for EVERY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7 Philmont Health and Medical Record form must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to be mailed shor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body goes unless they have a completed health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0:26:22Z</dcterms:created>
  <dc:creator> DURFEY</dc:creator>
  <dc:description/>
  <dc:language>en-US</dc:language>
  <cp:lastModifiedBy> DURFEY</cp:lastModifiedBy>
  <dcterms:modified xsi:type="dcterms:W3CDTF">2006-10-20T14:47:00Z</dcterms:modified>
  <cp:revision>9</cp:revision>
  <dc:subject/>
  <dc:title>PHILMONT 2007</dc:title>
</cp:coreProperties>
</file>